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746C-D242-4C00-8677-28ACB8AB3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F9E3-87B9-40F0-A3FB-332AB6AB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1DA9-C029-4E30-8EAC-CD29C37C5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51C3-1507-4B3E-9ED2-DA6E2B595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8012-9DEE-4AC1-8BA3-04CA0298E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4E99-244A-4A8C-9D11-2A934265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D63D-00DB-4765-B77C-365ADF14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E39C-1752-41E0-AC42-C9EDA59F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D0FF-EA77-4813-913B-8F065D73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83CB-16EB-4ADF-9A9C-611FC382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CF75-1808-4C33-8AE0-0E0F54CB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E71A-F1FF-4CBE-A6D5-7A32C651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47A6-D014-4203-B501-33A4C9BF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A4B6-651A-4AB1-B2FB-3F643929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3EE6-9DFA-49D0-AF70-AD11EB3C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C670-B1F7-468C-8E02-2B745C35D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8AD7-6416-47BB-9FA0-831CC9AEC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66B2-46D8-449C-B46A-99CF09B4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33C9-B856-4D9B-8E19-F2E64C37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65B2-1C2E-49B7-AE85-BE2AAC14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BDBE-6605-402F-A862-25CCDCF5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8054-F390-4852-8A71-FF4FFD16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5A31-3F07-4E77-A972-4FE9F1B2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C2AE-71ED-4353-970B-78AF0EB8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3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4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8C4A-FAF1-4D57-B835-BB0941F4B344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5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AD1B-8407-4CAB-80BE-35A93E73172B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Eastern Campaign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14040" y="38862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are not using the army, I should like to borrow it for a short while.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resident Lincol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George B. McClellan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st Point Graduate (184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llent recruiter &amp; trai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ckname:  Little Mac or Young Napole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ly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verestima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rength of opposing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The Peninsula Campaign (1862)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:  Take Richm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cClellan moves more than 100,000 men via R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 to outflank the Confeder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ty:  McClellan slow to move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Yorktown &amp; Seven Pines (1862)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cClellan chose to lay siege to Yorktown, causes disagreement with Lincol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S General Joseph E. Johnston decides to attack McClellan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event him from reaching Richmo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ston wounded…later replaced by Robert E. L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e ordered a halt to fighting.  (Why is this a smart move by Lee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Seven Days</a:t>
            </a:r>
            <a:r>
              <a:rPr b="0" i="1" lang="ja-JP" sz="4000" spc="-1" strike="noStrike">
                <a:solidFill>
                  <a:srgbClr val="482400"/>
                </a:solidFill>
                <a:latin typeface="Times New Roman"/>
              </a:rPr>
              <a:t>’</a:t>
            </a: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 Campaign (June 25</a:t>
            </a:r>
            <a:r>
              <a:rPr b="0" i="1" lang="en-US" sz="4000" spc="-1" strike="noStrike" baseline="30000">
                <a:solidFill>
                  <a:srgbClr val="482400"/>
                </a:solidFill>
                <a:latin typeface="Times New Roman"/>
              </a:rPr>
              <a:t>th</a:t>
            </a: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 to July 1</a:t>
            </a:r>
            <a:r>
              <a:rPr b="0" i="1" lang="en-US" sz="4000" spc="-1" strike="noStrike" baseline="30000">
                <a:solidFill>
                  <a:srgbClr val="482400"/>
                </a:solidFill>
                <a:latin typeface="Times New Roman"/>
              </a:rPr>
              <a:t>st</a:t>
            </a: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 1862)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e sent Jeb Stuart to scout McClellan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army and position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cares Little Ma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a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e forces McClellan to retr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coln removes McClellan as top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 regains momentum in the Eastern Th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2:18:57Z</dcterms:created>
  <dc:creator>Robert G. Finkbeiner</dc:creator>
  <dc:description/>
  <dc:language>en-US</dc:language>
  <cp:lastModifiedBy>PA Department of Education Classrooms for the Future</cp:lastModifiedBy>
  <dcterms:modified xsi:type="dcterms:W3CDTF">2011-12-07T19:44:39Z</dcterms:modified>
  <cp:revision>32</cp:revision>
  <dc:subject/>
  <dc:title>Eastern Campaigns</dc:title>
</cp:coreProperties>
</file>